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CDEC-DFEE-46F2-B0FD-36E09CF1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B454-3987-4FB6-9252-ECE2A341C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9016-4418-4F0B-A2CC-5FDF23895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AD2F-17E9-437E-9838-766AE14216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F1ED-12FF-4B2D-80BF-0DC6209D2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FA93-FCDD-4FE4-BECD-AF5959E67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199F-534B-412C-BBA0-57D546221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CB16-C7A1-4437-B7B6-A968272AE0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A5FF-8DEC-4DA3-AD76-B4438A15BB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9A5B-BC19-45E1-BC10-18B34D97FE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8E75-BE2B-412C-A708-77D1B9278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671B-7299-42AB-A992-017A00636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7E14-7D40-4DFB-B424-8C8124BEF7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5C6-02A6-434F-AD67-4E8EF809A6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5155-7ECB-4BD8-94BB-8C14EEEE6E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2AC0-B641-41AF-8310-1601AE4F7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B5D2-E881-45A8-8223-45CDE5D8D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71C-7AEF-4965-B7BF-E13D4F262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96A-D6D8-42F6-88DA-C58BCB9C6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0CF-E701-4EDA-A19B-273E6E4913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50B5-781A-43DB-8ADF-E1C1E83C48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F8AF-048D-4C2A-96B4-5C8CACFB7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7E5B-4596-4028-8434-C19B40FE53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4649-5C03-4AA4-B307-F067B4B67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FAC-83E0-4623-9054-F1751D886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45DB-D5C3-4084-96B7-F9FCC6CF3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5D9A-F998-44BA-90ED-F07D7B622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EC82-A5E1-4D4B-882B-6924D55B9F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958C-7599-4948-8698-64A5CC535B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body"/>
          </p:nvPr>
        </p:nvSpPr>
        <p:spPr>
          <a:xfrm>
            <a:off x="514080" y="4341960"/>
            <a:ext cx="5910120" cy="411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important thing you need to know before you start designing a processor is how the instructions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 more technical term, you need to know the instruction format. One good thing about the MIPS instruction set is that it is very si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of all, all MIPS instructions are 32 bits long and there are only three instruction formats: (a) R-type, (b) I-type, and (c) J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fields of the R-type instru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OP specifies the operation of the in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Rs, Rt, and Rd are the source and destination register specif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hamt specifies the amount you need to shift for the shift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 Funct selects the variant of the operation specified in the “op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I-type instruction, bits 0 to 15 are used as an immediate field.  I will show you how this immediate field is used differently by different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for the J-type instruction, bits 0 to 25 become the target address of the j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ldImg"/>
          </p:nvPr>
        </p:nvSpPr>
        <p:spPr>
          <a:xfrm>
            <a:off x="1160640" y="588960"/>
            <a:ext cx="4547880" cy="341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09F3-15AF-4990-B5D4-FF413F28C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21F9-FDBA-46E0-B509-CFF84301B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8941-1BDA-46E6-A24F-A3BADCD66F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E439-7159-4AD7-9B43-3E58381F13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46E7-C0D5-4747-BCB6-B343A169F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E5A4-A654-4AA1-A92C-25DE0CD9C2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5F3A-10B9-49BD-8E3B-DD7913E2B1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E0A-701B-4DAC-8E15-826D918201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173-72DE-45FF-AB83-DA111DF234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body"/>
          </p:nvPr>
        </p:nvSpPr>
        <p:spPr>
          <a:xfrm>
            <a:off x="514080" y="4341960"/>
            <a:ext cx="5910120" cy="411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the Register Transfer Language examples we have so far, we know we will need the following combinational logic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an adder to update the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UX to selec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an ALU to do various arithmetic and logic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 = 30 min. (Y: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ldImg"/>
          </p:nvPr>
        </p:nvSpPr>
        <p:spPr>
          <a:xfrm>
            <a:off x="1160640" y="588960"/>
            <a:ext cx="4547880" cy="341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79E-23FB-49BC-9FF2-08C8F5E999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F8D1-4B75-41DC-B0D3-B80FCDDAB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620C-F09B-48CB-8531-DCE829818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155-23EF-4DD4-8227-F2C9E342F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F782-0FA5-452F-BB2E-91DC139E4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03D7-D3A8-43C6-A21E-3103EF6A01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2B0-DA66-40DF-A146-B50306F3EB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6C41-0839-4341-BF19-8B2B75F30D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2F6F-1F14-4DB4-B915-76F0B22C0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220D-3D64-4A32-8197-9DEF3D8E2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ECA7-A485-4457-A745-CE2822408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770-D020-403D-99FF-35A6EB502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9425-7D95-42E5-8D41-8C716DDBD1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768C-8171-498B-8FD9-639713C085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9B97-2942-4B54-A7DB-8032B43D3A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D769-2789-4DD0-BC91-7A98B349F1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AEA6-1758-4BB4-AE7E-A95326C2A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CFE3-2D67-42AE-B662-9209D2607A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15E6-F1ED-45D2-A275-C4FBB66D8F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7F67-B22A-4DEF-9945-5087DBF8D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461-AAB5-40FC-B27F-3D48AA5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C4E-1858-4F97-BED9-81C1B096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3949A-E18D-4030-B165-7A5C413F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2098C-BC06-4B22-92EA-468A4B4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86A3E-38CF-4CBE-BC61-2E7C4A83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E253D-D356-4480-8BD1-F236B61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C1D71-7AD6-44B1-A8BF-0964DEA5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CF6F8-DD5A-4586-9035-3779EC28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52F4-7045-44C9-8B53-546C51DF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DDE10-F167-4C5F-8B4E-CB2ACD59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71506-74A5-4F02-B488-A6396930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B3AA7-44AD-46A7-A99F-07D56E7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640-7477-4068-BF0D-A574233E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F649A-B8FE-404E-8090-AA78682D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D6233-9874-42F1-B464-23B244A9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8CDC4-B8A6-48D7-8C6D-7D47360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99F9F-7350-42DC-A5DA-E790D709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3F59E-7002-4A81-8814-AF0BA9FA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E2751-B8E6-4B35-B826-D38E259E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5E037-104D-435B-AA93-D0486C6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F3708-B256-44CB-9394-900EEBF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90809-35B4-4ADC-A8E8-57FAFCD1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31423-2012-471C-BDA6-CD509E03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FE6-477B-4DB4-8F78-2FD8CABC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7D959-D21E-4B5F-86AC-7BCF3B0D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D0CD-6B71-4AB1-B6A2-039E1BBB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631C-D20C-494D-A796-9E2E1861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20166-8498-40BA-8441-C7DD0671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72893-A90B-4D6A-8A48-F05C0A5D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393C-C111-4722-9104-F771BB39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4D98-1A47-4175-9F17-B064AB81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6C4B-BDD7-4A6B-B949-DF516B14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51B3-02F2-4C9D-8AF8-2FA41FD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B12E5-9BBE-4A2D-B771-A8FF95A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E0D8-BAF6-47AC-BC5F-EF8240F2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94EF7-DA30-43ED-87E2-2D73BC8F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7838-5DBD-46BA-BB8E-99437925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1A7F-CF7F-409B-91FB-C246CC72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6A092-A3A1-4AE4-9D90-FC497E65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B7BBB-EF6A-4463-B888-1CC796E2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2B1D-81AB-401A-8671-965D9CED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996F3-BB05-43BE-A4FE-71B942C7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A5C6E-98E2-472E-917B-7AF5B4B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92A3F-68B1-49ED-946E-FCD07F19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7082D-593C-4FCF-AF52-A2D50A8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28A6-67C0-4C59-BF9B-3B9D298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71946-6F19-488C-8529-1EC065B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48082-AA6C-49BA-8D2A-2821283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CBB4B-AE13-4556-8772-1EFAF5A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E85D3-5B6F-4C9D-9012-520D35E9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EC507-70BF-4DBB-9D2E-7E7D26A7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5F0-8389-4F9A-BBDC-FA0367D7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1BD-25A1-4CD5-861B-960C3D8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BDA-99A7-4859-9A68-CC8924D6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7A73-58EF-4474-8874-F32DD8D3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FCA-5104-45B4-BF0F-BD902B2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3E5-8D60-446E-98F2-EEE1921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52D-4CDB-4E35-B423-0A3C6ED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2D34-8441-4CF9-AA8C-760DFEA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D204-0980-4F0C-9662-AC2DE2D7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D045-F6B7-47FC-8207-5FFC6EC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B637-C610-4515-A6E4-42862FE9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881F-2362-4446-B61C-D14848FF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0506-AFA7-4695-8C47-B19A8B6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8D86-6E18-4EEE-9C3C-4D40B9ED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DB26-7762-481B-8345-5013515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9DA9-B4E4-421B-880B-CF555F14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1D5-E605-4910-BF6F-6741D41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ADF7-1B0D-4537-A631-9E560FE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2191D-FA8C-4F1A-8C6C-D6303592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0CD2-1A29-41F6-B01F-76F7B826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AE9B-40AF-437E-AE45-18C85A9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F075-8FE6-4544-9DF3-DFD55391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7E01-FC24-486A-9A9B-87713C31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2191-0021-4B95-A645-E1EAD8DD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62F1-AD7A-417B-B0CC-D00D86D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872E-5473-49FF-9D81-E0F99E40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E4DDA-D173-43D5-9F5B-41180C4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6D6-4F4C-46BD-9D53-AA8B9AFB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FBF7A-7416-486E-A714-2BEB32F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2939-B2E4-4A82-86E8-E024A6CD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F0434-2A25-44C7-A8CF-98BC7785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D20E-57DC-4849-B150-5E5152D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46196-CD0A-499A-96B5-7804B4E2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33D92-CD3B-40B3-8FD2-5368429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957A-8FE1-43AF-8669-4C43789E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CF939-A2D7-444B-8FCA-CA847E47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DB1F0-F5D2-4DD9-8CDB-8FED856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31FB-DA92-44FC-8940-4B73053F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CA9-207D-49C8-8B0D-816B85E9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ED61-C5A1-49E2-A034-6643CEFB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FBA9-4FD8-4922-B4F6-5300D652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DFA54-9500-4591-94EA-B592C934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73B4-535C-4884-8FFA-2E7093F5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4359-FA80-4DA9-A05A-745ACF49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7122-D5A4-4B7A-8DDD-72FDBFC3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04F2-33C9-464D-A9BE-7DC9FB0B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557F7-AD9E-41E6-AD3A-00A196D0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CC1C6-6E0D-42B3-A0D1-5AA8B861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2C6D-9B78-499C-99F3-730A68A7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855-7D17-4901-8540-82A11AB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76BF8-5923-409B-8392-6896D5DF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A56BF-A73C-470E-924F-D75A55DB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23716-D121-4790-907E-BF45B08B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C34E6-AF49-4003-8DC6-F1F9FFA6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B9C96-280D-4338-83B0-6540996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B45E-90E8-4F9A-9FEE-C02247CD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4FF32-9767-4ADE-B9B6-133DA13B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09F2-7110-41EB-8654-15364669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C3956-0088-4128-A9D1-C508A73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8188-DC82-47A2-B33E-8AE4F0F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048-01EE-4614-ABF8-5EF554C0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FCC6-DF0E-4F40-A5A7-0C4EDE8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A0DBA-3A7D-452B-8C6B-63372A75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55F3F-8C37-45DB-8D1F-DF56D2BF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1B295-7B1E-4585-8308-B63037B2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5F4F-3383-4C86-B17E-01EA59F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D977-5C07-44E0-8D95-8FB46BA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BE8B-5A8F-4153-BA90-0B0457CF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107F-59C2-4949-B0FE-F671D5B9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5EF5C-C7A9-403B-B450-91D38514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0C8D-E99A-4607-90A4-4B621F88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D5B-9651-44BD-88CD-1DC9F78F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A547-82EF-4E35-BD07-89E7CA13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B7973-43F7-4817-96F3-F48421BE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6BE9-4BBE-4605-AC2F-477057E2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F89F4-D9D8-4F5F-A06F-E27F676C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59F1-03D9-4F6A-A995-823A55A3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DC13-E765-4632-BD95-E5ABE24A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2DD46-D874-41A5-847E-8FEFD74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1CC04-3355-4F7D-A3E3-3BD036F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22443-2452-4D77-8A35-B58CE0B9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DAE70-B253-4277-9478-3CA53B9C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E43-BB3C-4124-B326-C09D49B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9135E-8969-404B-A1ED-D18E2B76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206ED-864C-499E-8ADC-D07CEF0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2C42-DE90-4FF5-9817-8B238AD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5752-257C-4C8D-9229-C713AC3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6B040-9957-4B68-BF9F-3CC66636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6E40C-DDE9-4143-A3ED-EEDB7709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5A54A-A47E-4E7D-98E5-C012AD38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67A0-F548-40E5-8CC5-9920842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7AE08-1617-4376-9C30-6602AED9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0163F-A970-492E-8BB2-64714F1A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DB95-16AD-4FCA-A676-2E632A7BF7C7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8CC-EC71-455A-B299-9B56B1C6467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6FA6-6645-410A-A590-27639C3077F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0D7-2A87-49CA-9847-D3E74850E64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9465-E398-46C6-8560-C4B5A42FBB5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E525-F8C1-468A-A692-96F531F0FF2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CF2-7420-48EF-AE09-E76EF07B03B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B62D-7356-4B63-B5D2-998D766F0E6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8199-7A6A-4E1F-BDAC-B87E4E4961C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9CE-3812-4E74-AD5E-D587B689480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D551-DDFB-45A6-A9CE-A05DBCD7C71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5: Memory Addr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exed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284472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1454040" y="1982880"/>
            <a:ext cx="472284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2444760" y="1990800"/>
            <a:ext cx="0" cy="59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2570040" y="20574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1656360" y="20574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6380280" y="2895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6380280" y="3276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6380280" y="36576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6380280" y="4038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6380280" y="4419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6939360" y="236376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7139520" y="396252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1427040" y="35053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>
            <a:off x="2722680" y="2590920"/>
            <a:ext cx="0" cy="59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685800" y="3124080"/>
            <a:ext cx="20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8"/>
          <p:cNvSpPr/>
          <p:nvPr/>
        </p:nvSpPr>
        <p:spPr>
          <a:xfrm>
            <a:off x="1883160" y="320040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reeform 19"/>
          <p:cNvSpPr/>
          <p:nvPr/>
        </p:nvSpPr>
        <p:spPr>
          <a:xfrm>
            <a:off x="690480" y="312408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0"/>
          <p:cNvSpPr/>
          <p:nvPr/>
        </p:nvSpPr>
        <p:spPr>
          <a:xfrm>
            <a:off x="3027240" y="19810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1"/>
          <p:cNvSpPr/>
          <p:nvPr/>
        </p:nvSpPr>
        <p:spPr>
          <a:xfrm>
            <a:off x="4167360" y="205740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splacemen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22"/>
          <p:cNvSpPr/>
          <p:nvPr/>
        </p:nvSpPr>
        <p:spPr>
          <a:xfrm>
            <a:off x="4807080" y="4268880"/>
            <a:ext cx="529920" cy="45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4908240" y="42688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24"/>
          <p:cNvSpPr/>
          <p:nvPr/>
        </p:nvSpPr>
        <p:spPr>
          <a:xfrm>
            <a:off x="4030560" y="4495680"/>
            <a:ext cx="77652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5"/>
          <p:cNvSpPr/>
          <p:nvPr/>
        </p:nvSpPr>
        <p:spPr>
          <a:xfrm>
            <a:off x="5033880" y="259884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26"/>
          <p:cNvSpPr/>
          <p:nvPr/>
        </p:nvSpPr>
        <p:spPr>
          <a:xfrm flipV="1">
            <a:off x="5389560" y="4266360"/>
            <a:ext cx="99072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27"/>
          <p:cNvSpPr/>
          <p:nvPr/>
        </p:nvSpPr>
        <p:spPr>
          <a:xfrm>
            <a:off x="3865680" y="19810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8"/>
          <p:cNvSpPr/>
          <p:nvPr/>
        </p:nvSpPr>
        <p:spPr>
          <a:xfrm>
            <a:off x="1427040" y="37339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9"/>
          <p:cNvSpPr/>
          <p:nvPr/>
        </p:nvSpPr>
        <p:spPr>
          <a:xfrm>
            <a:off x="1427040" y="39625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0"/>
          <p:cNvSpPr/>
          <p:nvPr/>
        </p:nvSpPr>
        <p:spPr>
          <a:xfrm>
            <a:off x="1427040" y="41911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1"/>
          <p:cNvSpPr/>
          <p:nvPr/>
        </p:nvSpPr>
        <p:spPr>
          <a:xfrm>
            <a:off x="1427040" y="44197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2"/>
          <p:cNvSpPr/>
          <p:nvPr/>
        </p:nvSpPr>
        <p:spPr>
          <a:xfrm>
            <a:off x="1427040" y="46483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3"/>
          <p:cNvSpPr/>
          <p:nvPr/>
        </p:nvSpPr>
        <p:spPr>
          <a:xfrm>
            <a:off x="1427040" y="48769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4"/>
          <p:cNvSpPr/>
          <p:nvPr/>
        </p:nvSpPr>
        <p:spPr>
          <a:xfrm>
            <a:off x="1427040" y="51055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5"/>
          <p:cNvSpPr/>
          <p:nvPr/>
        </p:nvSpPr>
        <p:spPr>
          <a:xfrm>
            <a:off x="1199880" y="342900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6"/>
          <p:cNvSpPr/>
          <p:nvPr/>
        </p:nvSpPr>
        <p:spPr>
          <a:xfrm>
            <a:off x="6380280" y="48006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7"/>
          <p:cNvSpPr/>
          <p:nvPr/>
        </p:nvSpPr>
        <p:spPr>
          <a:xfrm>
            <a:off x="6380280" y="5181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8"/>
          <p:cNvSpPr/>
          <p:nvPr/>
        </p:nvSpPr>
        <p:spPr>
          <a:xfrm>
            <a:off x="6380280" y="5562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9"/>
          <p:cNvSpPr/>
          <p:nvPr/>
        </p:nvSpPr>
        <p:spPr>
          <a:xfrm>
            <a:off x="3481920" y="15238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0"/>
          <p:cNvSpPr/>
          <p:nvPr/>
        </p:nvSpPr>
        <p:spPr>
          <a:xfrm>
            <a:off x="2195640" y="2022480"/>
            <a:ext cx="37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uto increment and  Auto decremen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cated index register is automatically incremented or de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-, pre-in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+R,    R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-, pre-de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-R,    R--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 (1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mory cell pointed to by address field contains the address of (pointer to) the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 = (A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ok in A, find address (A) and look there for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ADD (A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 contents of cell pointed to by contents of A to accumula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rge address spac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here n = word leng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y be nested, multilevel, cascad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EA = (((A))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44120" indent="-1918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raw the diagram yoursel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ultiple memory accesses to find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nce slow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533520" y="2365200"/>
            <a:ext cx="4722840" cy="605160"/>
            <a:chOff x="533520" y="2365200"/>
            <a:chExt cx="4722840" cy="605160"/>
          </a:xfrm>
        </p:grpSpPr>
        <p:sp>
          <p:nvSpPr>
            <p:cNvPr id="689" name="Rectangle 6"/>
            <p:cNvSpPr/>
            <p:nvPr/>
          </p:nvSpPr>
          <p:spPr>
            <a:xfrm>
              <a:off x="533520" y="2365200"/>
              <a:ext cx="4722840" cy="60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1523880" y="23734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8"/>
          <p:cNvSpPr/>
          <p:nvPr/>
        </p:nvSpPr>
        <p:spPr>
          <a:xfrm>
            <a:off x="3505680" y="2438280"/>
            <a:ext cx="14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456840" y="24415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2207160" y="19080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5486400" y="32796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5486400" y="39654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5486400" y="46512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5486400" y="53370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5486400" y="60228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6018480" y="274644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6171840" y="480384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18"/>
          <p:cNvSpPr/>
          <p:nvPr/>
        </p:nvSpPr>
        <p:spPr>
          <a:xfrm>
            <a:off x="4114800" y="2971800"/>
            <a:ext cx="1371600" cy="650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5560920" y="3430440"/>
            <a:ext cx="24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20"/>
          <p:cNvSpPr/>
          <p:nvPr/>
        </p:nvSpPr>
        <p:spPr>
          <a:xfrm>
            <a:off x="8075520" y="3621240"/>
            <a:ext cx="230400" cy="137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22860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2"/>
          <p:cNvSpPr/>
          <p:nvPr/>
        </p:nvSpPr>
        <p:spPr>
          <a:xfrm>
            <a:off x="1828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1905120" y="2438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913680" y="3505320"/>
            <a:ext cx="1598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irection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 flipV="1">
            <a:off x="2133720" y="3047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addressing is denoted by an indirection 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0 - 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-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use in branch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rget address will cover larger address space depending on the width of the mai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533520" y="2365200"/>
            <a:ext cx="4722840" cy="605160"/>
            <a:chOff x="533520" y="2365200"/>
            <a:chExt cx="4722840" cy="605160"/>
          </a:xfrm>
        </p:grpSpPr>
        <p:sp>
          <p:nvSpPr>
            <p:cNvPr id="715" name="Rectangle 6"/>
            <p:cNvSpPr/>
            <p:nvPr/>
          </p:nvSpPr>
          <p:spPr>
            <a:xfrm>
              <a:off x="533520" y="2365200"/>
              <a:ext cx="4722840" cy="60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7"/>
            <p:cNvSpPr/>
            <p:nvPr/>
          </p:nvSpPr>
          <p:spPr>
            <a:xfrm>
              <a:off x="1523880" y="23734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8"/>
          <p:cNvSpPr/>
          <p:nvPr/>
        </p:nvSpPr>
        <p:spPr>
          <a:xfrm>
            <a:off x="2666880" y="244152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9"/>
          <p:cNvSpPr/>
          <p:nvPr/>
        </p:nvSpPr>
        <p:spPr>
          <a:xfrm>
            <a:off x="456840" y="24415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3200" y="190512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irect branch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5486400" y="32796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2"/>
          <p:cNvSpPr/>
          <p:nvPr/>
        </p:nvSpPr>
        <p:spPr>
          <a:xfrm>
            <a:off x="5486400" y="39654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5486400" y="46512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5486400" y="53370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5"/>
          <p:cNvSpPr/>
          <p:nvPr/>
        </p:nvSpPr>
        <p:spPr>
          <a:xfrm>
            <a:off x="5486400" y="60228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6"/>
          <p:cNvSpPr/>
          <p:nvPr/>
        </p:nvSpPr>
        <p:spPr>
          <a:xfrm>
            <a:off x="6092640" y="205740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17"/>
          <p:cNvSpPr/>
          <p:nvPr/>
        </p:nvSpPr>
        <p:spPr>
          <a:xfrm>
            <a:off x="2895480" y="2971800"/>
            <a:ext cx="2590920" cy="650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6015960" y="3429000"/>
            <a:ext cx="167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reeform 19"/>
          <p:cNvSpPr/>
          <p:nvPr/>
        </p:nvSpPr>
        <p:spPr>
          <a:xfrm>
            <a:off x="8075520" y="3621240"/>
            <a:ext cx="230400" cy="137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0"/>
          <p:cNvSpPr/>
          <p:nvPr/>
        </p:nvSpPr>
        <p:spPr>
          <a:xfrm>
            <a:off x="2894400" y="3048120"/>
            <a:ext cx="158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ranch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1"/>
          <p:cNvSpPr/>
          <p:nvPr/>
        </p:nvSpPr>
        <p:spPr>
          <a:xfrm>
            <a:off x="5486400" y="259092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3805920" y="4876920"/>
            <a:ext cx="167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3"/>
          <p:cNvSpPr/>
          <p:nvPr/>
        </p:nvSpPr>
        <p:spPr>
          <a:xfrm>
            <a:off x="5862240" y="4876920"/>
            <a:ext cx="199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4"/>
          <p:cNvSpPr/>
          <p:nvPr/>
        </p:nvSpPr>
        <p:spPr>
          <a:xfrm>
            <a:off x="4952880" y="33526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Indirec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 with: 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(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in memory cell pointed to by contents of register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address space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fewer memory access than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Indirect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741" name="Group 5"/>
          <p:cNvGrpSpPr/>
          <p:nvPr/>
        </p:nvGrpSpPr>
        <p:grpSpPr>
          <a:xfrm>
            <a:off x="1454040" y="1905120"/>
            <a:ext cx="4722840" cy="604800"/>
            <a:chOff x="1454040" y="1905120"/>
            <a:chExt cx="4722840" cy="604800"/>
          </a:xfrm>
        </p:grpSpPr>
        <p:sp>
          <p:nvSpPr>
            <p:cNvPr id="742" name="Rectangle 6"/>
            <p:cNvSpPr/>
            <p:nvPr/>
          </p:nvSpPr>
          <p:spPr>
            <a:xfrm>
              <a:off x="1454040" y="190512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"/>
            <p:cNvSpPr/>
            <p:nvPr/>
          </p:nvSpPr>
          <p:spPr>
            <a:xfrm>
              <a:off x="2444760" y="19126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8"/>
          <p:cNvSpPr/>
          <p:nvPr/>
        </p:nvSpPr>
        <p:spPr>
          <a:xfrm>
            <a:off x="3013200" y="1981080"/>
            <a:ext cx="255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 Addres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1377720" y="198108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127680" y="144792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6407280" y="27417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6407280" y="34275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6407280" y="41133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407280" y="47991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6407280" y="54849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6939360" y="220824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7092360" y="426564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454040" y="34290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1454040" y="41148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1454040" y="48006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1454040" y="54864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1527840" y="4267080"/>
            <a:ext cx="250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3"/>
          <p:cNvSpPr/>
          <p:nvPr/>
        </p:nvSpPr>
        <p:spPr>
          <a:xfrm>
            <a:off x="3433680" y="2521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4"/>
          <p:cNvSpPr/>
          <p:nvPr/>
        </p:nvSpPr>
        <p:spPr>
          <a:xfrm flipH="1">
            <a:off x="685440" y="304632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5"/>
          <p:cNvSpPr/>
          <p:nvPr/>
        </p:nvSpPr>
        <p:spPr>
          <a:xfrm>
            <a:off x="2138040" y="304812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reeform 26"/>
          <p:cNvSpPr/>
          <p:nvPr/>
        </p:nvSpPr>
        <p:spPr>
          <a:xfrm>
            <a:off x="690480" y="3046320"/>
            <a:ext cx="763560" cy="1411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27"/>
          <p:cNvSpPr/>
          <p:nvPr/>
        </p:nvSpPr>
        <p:spPr>
          <a:xfrm>
            <a:off x="4043520" y="4417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indexed-indirect referenc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1170000" y="2287440"/>
            <a:ext cx="4722840" cy="6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4"/>
          <p:cNvSpPr/>
          <p:nvPr/>
        </p:nvSpPr>
        <p:spPr>
          <a:xfrm>
            <a:off x="2160720" y="229536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228600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1372320" y="23623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095880" y="3200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8"/>
          <p:cNvSpPr/>
          <p:nvPr/>
        </p:nvSpPr>
        <p:spPr>
          <a:xfrm>
            <a:off x="6095880" y="3581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9"/>
          <p:cNvSpPr/>
          <p:nvPr/>
        </p:nvSpPr>
        <p:spPr>
          <a:xfrm>
            <a:off x="6095880" y="3962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0"/>
          <p:cNvSpPr/>
          <p:nvPr/>
        </p:nvSpPr>
        <p:spPr>
          <a:xfrm>
            <a:off x="6095880" y="4343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6095880" y="4724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6655320" y="266868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3"/>
          <p:cNvSpPr/>
          <p:nvPr/>
        </p:nvSpPr>
        <p:spPr>
          <a:xfrm>
            <a:off x="6780960" y="4343400"/>
            <a:ext cx="171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4"/>
          <p:cNvSpPr/>
          <p:nvPr/>
        </p:nvSpPr>
        <p:spPr>
          <a:xfrm>
            <a:off x="1143000" y="3809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5"/>
          <p:cNvSpPr/>
          <p:nvPr/>
        </p:nvSpPr>
        <p:spPr>
          <a:xfrm>
            <a:off x="1244160" y="46497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6"/>
          <p:cNvSpPr/>
          <p:nvPr/>
        </p:nvSpPr>
        <p:spPr>
          <a:xfrm>
            <a:off x="2819520" y="28954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7"/>
          <p:cNvSpPr/>
          <p:nvPr/>
        </p:nvSpPr>
        <p:spPr>
          <a:xfrm flipH="1">
            <a:off x="401760" y="3429000"/>
            <a:ext cx="241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1598760" y="350532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reeform 19"/>
          <p:cNvSpPr/>
          <p:nvPr/>
        </p:nvSpPr>
        <p:spPr>
          <a:xfrm>
            <a:off x="406440" y="342900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20"/>
          <p:cNvSpPr/>
          <p:nvPr/>
        </p:nvSpPr>
        <p:spPr>
          <a:xfrm>
            <a:off x="26668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21"/>
          <p:cNvSpPr/>
          <p:nvPr/>
        </p:nvSpPr>
        <p:spPr>
          <a:xfrm>
            <a:off x="4035600" y="236232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splacemen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4522680" y="457344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23"/>
          <p:cNvSpPr/>
          <p:nvPr/>
        </p:nvSpPr>
        <p:spPr>
          <a:xfrm>
            <a:off x="4623840" y="45734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Freeform 24"/>
          <p:cNvSpPr/>
          <p:nvPr/>
        </p:nvSpPr>
        <p:spPr>
          <a:xfrm>
            <a:off x="3746520" y="4800600"/>
            <a:ext cx="77616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25"/>
          <p:cNvSpPr/>
          <p:nvPr/>
        </p:nvSpPr>
        <p:spPr>
          <a:xfrm>
            <a:off x="4749840" y="290340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26"/>
          <p:cNvSpPr/>
          <p:nvPr/>
        </p:nvSpPr>
        <p:spPr>
          <a:xfrm flipV="1">
            <a:off x="5105520" y="4571280"/>
            <a:ext cx="99036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27"/>
          <p:cNvSpPr/>
          <p:nvPr/>
        </p:nvSpPr>
        <p:spPr>
          <a:xfrm>
            <a:off x="35812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1143000" y="4038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143000" y="4267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143000" y="4495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143000" y="4724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143000" y="4952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143000" y="5181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143000" y="5410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915840" y="373392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095880" y="5105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095880" y="5486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095880" y="5867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933960" y="5486400"/>
            <a:ext cx="96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40"/>
          <p:cNvSpPr/>
          <p:nvPr/>
        </p:nvSpPr>
        <p:spPr>
          <a:xfrm>
            <a:off x="8686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41"/>
          <p:cNvSpPr/>
          <p:nvPr/>
        </p:nvSpPr>
        <p:spPr>
          <a:xfrm>
            <a:off x="891540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42"/>
          <p:cNvSpPr/>
          <p:nvPr/>
        </p:nvSpPr>
        <p:spPr>
          <a:xfrm flipH="1">
            <a:off x="868644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2843640" y="183024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44"/>
          <p:cNvSpPr/>
          <p:nvPr/>
        </p:nvSpPr>
        <p:spPr>
          <a:xfrm>
            <a:off x="2728800" y="232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se-displacement addressing - without index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284472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1170000" y="2287440"/>
            <a:ext cx="4722840" cy="6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5"/>
          <p:cNvSpPr/>
          <p:nvPr/>
        </p:nvSpPr>
        <p:spPr>
          <a:xfrm>
            <a:off x="2160720" y="229536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2666880" y="23623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1372320" y="23623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6095880" y="3200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6095880" y="3581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6095880" y="3962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6095880" y="4343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6095880" y="4724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6652800" y="266868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6855480" y="426708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5"/>
          <p:cNvSpPr/>
          <p:nvPr/>
        </p:nvSpPr>
        <p:spPr>
          <a:xfrm>
            <a:off x="1143000" y="3809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6"/>
          <p:cNvSpPr/>
          <p:nvPr/>
        </p:nvSpPr>
        <p:spPr>
          <a:xfrm>
            <a:off x="1244160" y="46497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>
            <a:off x="2895480" y="28954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8"/>
          <p:cNvSpPr/>
          <p:nvPr/>
        </p:nvSpPr>
        <p:spPr>
          <a:xfrm flipH="1">
            <a:off x="401400" y="3429000"/>
            <a:ext cx="249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9"/>
          <p:cNvSpPr/>
          <p:nvPr/>
        </p:nvSpPr>
        <p:spPr>
          <a:xfrm>
            <a:off x="1599120" y="3505320"/>
            <a:ext cx="153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a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reeform 20"/>
          <p:cNvSpPr/>
          <p:nvPr/>
        </p:nvSpPr>
        <p:spPr>
          <a:xfrm>
            <a:off x="406440" y="342900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26668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2"/>
          <p:cNvSpPr/>
          <p:nvPr/>
        </p:nvSpPr>
        <p:spPr>
          <a:xfrm>
            <a:off x="4648320" y="23623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23"/>
          <p:cNvSpPr/>
          <p:nvPr/>
        </p:nvSpPr>
        <p:spPr>
          <a:xfrm>
            <a:off x="4522680" y="457344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24"/>
          <p:cNvSpPr/>
          <p:nvPr/>
        </p:nvSpPr>
        <p:spPr>
          <a:xfrm>
            <a:off x="4623840" y="45734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25"/>
          <p:cNvSpPr/>
          <p:nvPr/>
        </p:nvSpPr>
        <p:spPr>
          <a:xfrm>
            <a:off x="3746520" y="4800600"/>
            <a:ext cx="77616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26"/>
          <p:cNvSpPr/>
          <p:nvPr/>
        </p:nvSpPr>
        <p:spPr>
          <a:xfrm>
            <a:off x="4749840" y="290340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27"/>
          <p:cNvSpPr/>
          <p:nvPr/>
        </p:nvSpPr>
        <p:spPr>
          <a:xfrm flipV="1">
            <a:off x="5105520" y="4571280"/>
            <a:ext cx="99036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>
            <a:off x="31240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9"/>
          <p:cNvSpPr/>
          <p:nvPr/>
        </p:nvSpPr>
        <p:spPr>
          <a:xfrm>
            <a:off x="1143000" y="4038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0"/>
          <p:cNvSpPr/>
          <p:nvPr/>
        </p:nvSpPr>
        <p:spPr>
          <a:xfrm>
            <a:off x="1143000" y="4267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1"/>
          <p:cNvSpPr/>
          <p:nvPr/>
        </p:nvSpPr>
        <p:spPr>
          <a:xfrm>
            <a:off x="1143000" y="4495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2"/>
          <p:cNvSpPr/>
          <p:nvPr/>
        </p:nvSpPr>
        <p:spPr>
          <a:xfrm>
            <a:off x="1143000" y="4724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33"/>
          <p:cNvSpPr/>
          <p:nvPr/>
        </p:nvSpPr>
        <p:spPr>
          <a:xfrm>
            <a:off x="1143000" y="4952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4"/>
          <p:cNvSpPr/>
          <p:nvPr/>
        </p:nvSpPr>
        <p:spPr>
          <a:xfrm>
            <a:off x="1143000" y="5181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35"/>
          <p:cNvSpPr/>
          <p:nvPr/>
        </p:nvSpPr>
        <p:spPr>
          <a:xfrm>
            <a:off x="1143000" y="5410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36"/>
          <p:cNvSpPr/>
          <p:nvPr/>
        </p:nvSpPr>
        <p:spPr>
          <a:xfrm>
            <a:off x="915840" y="373392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7"/>
          <p:cNvSpPr/>
          <p:nvPr/>
        </p:nvSpPr>
        <p:spPr>
          <a:xfrm>
            <a:off x="6095880" y="5105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8"/>
          <p:cNvSpPr/>
          <p:nvPr/>
        </p:nvSpPr>
        <p:spPr>
          <a:xfrm>
            <a:off x="6095880" y="5486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39"/>
          <p:cNvSpPr/>
          <p:nvPr/>
        </p:nvSpPr>
        <p:spPr>
          <a:xfrm>
            <a:off x="6095880" y="5867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40"/>
          <p:cNvSpPr/>
          <p:nvPr/>
        </p:nvSpPr>
        <p:spPr>
          <a:xfrm>
            <a:off x="3197520" y="18288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41"/>
          <p:cNvSpPr/>
          <p:nvPr/>
        </p:nvSpPr>
        <p:spPr>
          <a:xfrm>
            <a:off x="40384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4881960" y="426708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fectiv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emory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mmon memory-addressing techniques are as follow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mediate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solut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exed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exed-indirec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-displacemen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-relativ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ck-register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o increment and auto decremen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-register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se-displacement addressing - with index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1066680" y="1066680"/>
            <a:ext cx="472284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4"/>
          <p:cNvSpPr/>
          <p:nvPr/>
        </p:nvSpPr>
        <p:spPr>
          <a:xfrm>
            <a:off x="2057400" y="10746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2563920" y="11415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1269000" y="114156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5992920" y="1979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8"/>
          <p:cNvSpPr/>
          <p:nvPr/>
        </p:nvSpPr>
        <p:spPr>
          <a:xfrm>
            <a:off x="5992920" y="2360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5992920" y="274176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5992920" y="3122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5992920" y="3503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2"/>
          <p:cNvSpPr/>
          <p:nvPr/>
        </p:nvSpPr>
        <p:spPr>
          <a:xfrm>
            <a:off x="6549840" y="144792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3"/>
          <p:cNvSpPr/>
          <p:nvPr/>
        </p:nvSpPr>
        <p:spPr>
          <a:xfrm>
            <a:off x="6754320" y="3046320"/>
            <a:ext cx="96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4"/>
          <p:cNvSpPr/>
          <p:nvPr/>
        </p:nvSpPr>
        <p:spPr>
          <a:xfrm>
            <a:off x="1039680" y="25891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5"/>
          <p:cNvSpPr/>
          <p:nvPr/>
        </p:nvSpPr>
        <p:spPr>
          <a:xfrm>
            <a:off x="1141200" y="342900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6"/>
          <p:cNvSpPr/>
          <p:nvPr/>
        </p:nvSpPr>
        <p:spPr>
          <a:xfrm>
            <a:off x="2792520" y="167472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7"/>
          <p:cNvSpPr/>
          <p:nvPr/>
        </p:nvSpPr>
        <p:spPr>
          <a:xfrm flipH="1">
            <a:off x="298440" y="220824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1495800" y="2284560"/>
            <a:ext cx="153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a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19"/>
          <p:cNvSpPr/>
          <p:nvPr/>
        </p:nvSpPr>
        <p:spPr>
          <a:xfrm>
            <a:off x="303120" y="220824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0"/>
          <p:cNvSpPr/>
          <p:nvPr/>
        </p:nvSpPr>
        <p:spPr>
          <a:xfrm>
            <a:off x="25639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1"/>
          <p:cNvSpPr/>
          <p:nvPr/>
        </p:nvSpPr>
        <p:spPr>
          <a:xfrm>
            <a:off x="4545360" y="1141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2"/>
          <p:cNvSpPr/>
          <p:nvPr/>
        </p:nvSpPr>
        <p:spPr>
          <a:xfrm>
            <a:off x="4419720" y="335268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3"/>
          <p:cNvSpPr/>
          <p:nvPr/>
        </p:nvSpPr>
        <p:spPr>
          <a:xfrm>
            <a:off x="4520880" y="33526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reeform 24"/>
          <p:cNvSpPr/>
          <p:nvPr/>
        </p:nvSpPr>
        <p:spPr>
          <a:xfrm>
            <a:off x="3643200" y="3579840"/>
            <a:ext cx="77652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5"/>
          <p:cNvSpPr/>
          <p:nvPr/>
        </p:nvSpPr>
        <p:spPr>
          <a:xfrm>
            <a:off x="4646520" y="168264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Freeform 26"/>
          <p:cNvSpPr/>
          <p:nvPr/>
        </p:nvSpPr>
        <p:spPr>
          <a:xfrm flipV="1">
            <a:off x="5002200" y="3350520"/>
            <a:ext cx="99072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27"/>
          <p:cNvSpPr/>
          <p:nvPr/>
        </p:nvSpPr>
        <p:spPr>
          <a:xfrm>
            <a:off x="30211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8"/>
          <p:cNvSpPr/>
          <p:nvPr/>
        </p:nvSpPr>
        <p:spPr>
          <a:xfrm>
            <a:off x="1039680" y="28177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9"/>
          <p:cNvSpPr/>
          <p:nvPr/>
        </p:nvSpPr>
        <p:spPr>
          <a:xfrm>
            <a:off x="1039680" y="30463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0"/>
          <p:cNvSpPr/>
          <p:nvPr/>
        </p:nvSpPr>
        <p:spPr>
          <a:xfrm>
            <a:off x="1039680" y="32749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1"/>
          <p:cNvSpPr/>
          <p:nvPr/>
        </p:nvSpPr>
        <p:spPr>
          <a:xfrm>
            <a:off x="1039680" y="35035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2"/>
          <p:cNvSpPr/>
          <p:nvPr/>
        </p:nvSpPr>
        <p:spPr>
          <a:xfrm>
            <a:off x="1039680" y="37321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3"/>
          <p:cNvSpPr/>
          <p:nvPr/>
        </p:nvSpPr>
        <p:spPr>
          <a:xfrm>
            <a:off x="1039680" y="39607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34"/>
          <p:cNvSpPr/>
          <p:nvPr/>
        </p:nvSpPr>
        <p:spPr>
          <a:xfrm>
            <a:off x="1039680" y="41893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5"/>
          <p:cNvSpPr/>
          <p:nvPr/>
        </p:nvSpPr>
        <p:spPr>
          <a:xfrm>
            <a:off x="812520" y="251316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36"/>
          <p:cNvSpPr/>
          <p:nvPr/>
        </p:nvSpPr>
        <p:spPr>
          <a:xfrm>
            <a:off x="5992920" y="388476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7"/>
          <p:cNvSpPr/>
          <p:nvPr/>
        </p:nvSpPr>
        <p:spPr>
          <a:xfrm>
            <a:off x="5992920" y="4265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8"/>
          <p:cNvSpPr/>
          <p:nvPr/>
        </p:nvSpPr>
        <p:spPr>
          <a:xfrm>
            <a:off x="5992920" y="4646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9"/>
          <p:cNvSpPr/>
          <p:nvPr/>
        </p:nvSpPr>
        <p:spPr>
          <a:xfrm>
            <a:off x="3094560" y="60804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0"/>
          <p:cNvSpPr/>
          <p:nvPr/>
        </p:nvSpPr>
        <p:spPr>
          <a:xfrm>
            <a:off x="39355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1"/>
          <p:cNvSpPr/>
          <p:nvPr/>
        </p:nvSpPr>
        <p:spPr>
          <a:xfrm>
            <a:off x="1219320" y="4886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2"/>
          <p:cNvSpPr/>
          <p:nvPr/>
        </p:nvSpPr>
        <p:spPr>
          <a:xfrm>
            <a:off x="1320480" y="57261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43"/>
          <p:cNvSpPr/>
          <p:nvPr/>
        </p:nvSpPr>
        <p:spPr>
          <a:xfrm>
            <a:off x="2286000" y="1676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4"/>
          <p:cNvSpPr/>
          <p:nvPr/>
        </p:nvSpPr>
        <p:spPr>
          <a:xfrm flipH="1">
            <a:off x="151920" y="1828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5"/>
          <p:cNvSpPr/>
          <p:nvPr/>
        </p:nvSpPr>
        <p:spPr>
          <a:xfrm>
            <a:off x="1675080" y="458136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46"/>
          <p:cNvSpPr/>
          <p:nvPr/>
        </p:nvSpPr>
        <p:spPr>
          <a:xfrm>
            <a:off x="152280" y="1828800"/>
            <a:ext cx="838440" cy="366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47"/>
          <p:cNvSpPr/>
          <p:nvPr/>
        </p:nvSpPr>
        <p:spPr>
          <a:xfrm>
            <a:off x="1219320" y="5114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48"/>
          <p:cNvSpPr/>
          <p:nvPr/>
        </p:nvSpPr>
        <p:spPr>
          <a:xfrm>
            <a:off x="1219320" y="5343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49"/>
          <p:cNvSpPr/>
          <p:nvPr/>
        </p:nvSpPr>
        <p:spPr>
          <a:xfrm>
            <a:off x="1219320" y="5572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0"/>
          <p:cNvSpPr/>
          <p:nvPr/>
        </p:nvSpPr>
        <p:spPr>
          <a:xfrm>
            <a:off x="1219320" y="5800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1"/>
          <p:cNvSpPr/>
          <p:nvPr/>
        </p:nvSpPr>
        <p:spPr>
          <a:xfrm>
            <a:off x="1219320" y="6029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2"/>
          <p:cNvSpPr/>
          <p:nvPr/>
        </p:nvSpPr>
        <p:spPr>
          <a:xfrm>
            <a:off x="1219320" y="6257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3"/>
          <p:cNvSpPr/>
          <p:nvPr/>
        </p:nvSpPr>
        <p:spPr>
          <a:xfrm>
            <a:off x="1219320" y="6486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4"/>
          <p:cNvSpPr/>
          <p:nvPr/>
        </p:nvSpPr>
        <p:spPr>
          <a:xfrm>
            <a:off x="991800" y="480996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55"/>
          <p:cNvSpPr/>
          <p:nvPr/>
        </p:nvSpPr>
        <p:spPr>
          <a:xfrm>
            <a:off x="38098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56"/>
          <p:cNvSpPr/>
          <p:nvPr/>
        </p:nvSpPr>
        <p:spPr>
          <a:xfrm flipV="1">
            <a:off x="4724280" y="38095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2133360" y="11430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4881960" y="312408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fectiv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09960" indent="-2401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 - Relativ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version of base-displacemen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 = Program counter,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5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D + (P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ck-register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(implicitly) on top of st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5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 top two items from stac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ad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What leads to a good/bad ISA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e of Implementation (Job of Architect/Design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the ISA lead itself to efficient implementat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e of Programming (Job of Programmer/Compil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the compiler use the ISA effectivel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ture Compat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As may last 30+y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al Features, Address range, etc. need to be thought 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VAX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32-bit ISA, instructions could be huge (up to 321), 16 GP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Operated on data types from 8 to 128-bits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decimals, str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Orthogonal, memory-to-memory, all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modes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Hundreds of special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Simple compiler, hand-coding was comm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CPI was over 10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x8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length ISA (1-16 byt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P Operand St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 operand instructions (extended accumulato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-register and register-memory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led addressing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been extended many times (as AMD has recently done with x86-64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l, initially went to IA64, now backtrac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ISC vs RISC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instruction set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addressing modes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opera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uced instruction set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/store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instru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Comparison of process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CISC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RISC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Superscal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BM             DEC VAX  Intel                       Motorola  MIPS                        IBM          Int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370/168      11/780     486                         88000     R4000                       RS/6000    8096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973           1978        1989                       1988       1991                        1990          19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. of instructio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208              303        235                          51          94                           184             6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nstruction size (octets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2-6               2-57       1-11                         4           32                           4                4 or 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ddressing mod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4                  22          11                            3            1                           2               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GP Register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6                16           8                            32          32                          32             23-25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trol memory (k bytes) (microprogramming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420             480        246                             0            0                          0              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duced-Instruction-Set Computers (RISC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the early 1980s, several architects started investigating computers with simple ISAs, similar to that of CDC 6600. Computer scientists employed the term RISC, for reduced-instruction-set computers, to describe these machines. Although no definition is universally accepted, a RISC computer has most of the following propertie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Instructions are conceptually simpl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.Instructions are of a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uniform leng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.Instructions use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one (or very few) instruction formats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.The instruction set is orthogonal (that is, there is little overlapping of instruction functionality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5.Instruction use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one (or very few) addressing mod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.The architecture is a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load-and-store architectu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nly load and store instructions reference memory; all operate instructions are register-to-register instructions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.The ISA supports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two (or a few more) datatyp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typically integer and floating point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ISC-CISC Controvers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re are two schools of thought on instruction-set design: one favors complex instruction sets, the other favors reduced instruction sets. </a:t>
            </a:r>
            <a:r>
              <a:rPr b="0" lang="en-US" sz="2200" spc="-1" strike="noStrike">
                <a:solidFill>
                  <a:srgbClr val="009900"/>
                </a:solidFill>
                <a:latin typeface="Gill Sans MT"/>
              </a:rPr>
              <a:t>Proponents of CISC architectures give many arguments in their favor, including the followin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(more complex)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improve the merit of the architectur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since operations implemented in microcode execute faster than operations implemented in softwar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do not increase the cos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f implementation (in dollars) over that of simpler instruction set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need for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upward compatibility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ithin a family results in an increase in the instruction-set size, and upward compatibility is easier to implement in  microcod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simplify compiler design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 instructions sets make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cloning of a computer more difficul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thus protecting proprietary design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of the reasons </a:t>
            </a:r>
            <a:r>
              <a:rPr b="0" lang="en-US" sz="2400" spc="-1" strike="noStrike">
                <a:solidFill>
                  <a:srgbClr val="009900"/>
                </a:solidFill>
                <a:latin typeface="Gill Sans MT"/>
              </a:rPr>
              <a:t>proponents give in favor of RISC architectures ar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basic hardware is simpl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o it can be cheaper and faster, more than compensating for the increased number of instructions required to perform some oper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Instruction caches easily compensate for the large number of b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the instructions required by a R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easier to compi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a RISC than for a CISC architectu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Design effor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henc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development cost, for a RISC is l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an for a C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easier to introduce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o the control unit of a RISC than a C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ossible addressing mod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4674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990360" y="457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the standpoint of designing a computer family, a designer must consider the following factors when deciding between a RISC or a CISC architectu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IS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uccessful and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too simp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it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invites plug-compatible competi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cloning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ISA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too comple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supercomputer and pipelined implementations may be impossi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instruction encoding is too inefficient, large programs will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use excessive memor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memory bandwidth. The memory system and its connection to the CPU is an expensive component of computers.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The increased memory bandwidth of a RISC may well make it more expensiv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negating a major RISC advantag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Controvers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Gill Sans MT"/>
              </a:rPr>
              <a:t>compar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9933"/>
                </a:solidFill>
                <a:latin typeface="Gill Sans MT"/>
              </a:rPr>
              <a:t>program sizes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GB" sz="2400" spc="-1" strike="noStrike">
                <a:solidFill>
                  <a:srgbClr val="ff9933"/>
                </a:solidFill>
                <a:latin typeface="Gill Sans MT"/>
              </a:rPr>
              <a:t>execution spee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xamine </a:t>
            </a:r>
            <a:r>
              <a:rPr b="0" lang="en-GB" sz="2400" spc="-1" strike="noStrike">
                <a:solidFill>
                  <a:srgbClr val="ff3300"/>
                </a:solidFill>
                <a:latin typeface="Gill Sans MT"/>
              </a:rPr>
              <a:t>issues of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high level languag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support and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use of VLSI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real e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No pair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RISC and CISC that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are directly compar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No definitive set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test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Difficult to separate hardware effects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rom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compiler eff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ost commercial devices are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a mix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MIPS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storage order of wo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little-endian - store the little end of the word fir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processor organis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where it stores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what it does in executing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MIP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ll registers are 32-b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PC (program counter) holds address of next instru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32 general purpose registers (can use name or numbe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struction set: load &amp; store, operations, jump &amp; branch, oth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MIPS ISA Design Principl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icity favors regula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 size instructions – 32-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y three 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design demands good compromi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is fas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instruction s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number of registers in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number of addressing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 the common case f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ithmetic operands from the register file (load-store mach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instructions to contain immediate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72120" cy="720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MIPS Instruction Forma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28520" y="762120"/>
            <a:ext cx="7962840" cy="641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MIPS instructions are 32 bits long.  The three  instruction formats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lnSpc>
                <a:spcPct val="6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ifferent fields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: operation of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s, rt, rd: the source and destination register specifi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mt: shift amou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nct: selects the variant of the operation in the “op”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/ immediate: address offset or immediate val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rget address: target address of the jump instr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33" name="Group 4"/>
          <p:cNvGrpSpPr/>
          <p:nvPr/>
        </p:nvGrpSpPr>
        <p:grpSpPr>
          <a:xfrm>
            <a:off x="2498040" y="3122640"/>
            <a:ext cx="6307200" cy="945360"/>
            <a:chOff x="2498040" y="3122640"/>
            <a:chExt cx="6307200" cy="945360"/>
          </a:xfrm>
        </p:grpSpPr>
        <p:sp>
          <p:nvSpPr>
            <p:cNvPr id="934" name="Rectangle 5"/>
            <p:cNvSpPr/>
            <p:nvPr/>
          </p:nvSpPr>
          <p:spPr>
            <a:xfrm>
              <a:off x="2603520" y="3441600"/>
              <a:ext cx="6070680" cy="279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2597040" y="3427560"/>
              <a:ext cx="1054080" cy="335880"/>
              <a:chOff x="2597040" y="3427560"/>
              <a:chExt cx="1054080" cy="335880"/>
            </a:xfrm>
          </p:grpSpPr>
          <p:sp>
            <p:nvSpPr>
              <p:cNvPr id="936" name="Rectangle 7"/>
              <p:cNvSpPr/>
              <p:nvPr/>
            </p:nvSpPr>
            <p:spPr>
              <a:xfrm>
                <a:off x="2597040" y="3435480"/>
                <a:ext cx="1054080" cy="291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8"/>
              <p:cNvSpPr/>
              <p:nvPr/>
            </p:nvSpPr>
            <p:spPr>
              <a:xfrm>
                <a:off x="2907720" y="3427560"/>
                <a:ext cx="399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Rectangle 9"/>
            <p:cNvSpPr/>
            <p:nvPr/>
          </p:nvSpPr>
          <p:spPr>
            <a:xfrm>
              <a:off x="3664080" y="3435480"/>
              <a:ext cx="501624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10"/>
            <p:cNvSpPr/>
            <p:nvPr/>
          </p:nvSpPr>
          <p:spPr>
            <a:xfrm>
              <a:off x="5259960" y="3427560"/>
              <a:ext cx="141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rget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11"/>
            <p:cNvSpPr/>
            <p:nvPr/>
          </p:nvSpPr>
          <p:spPr>
            <a:xfrm>
              <a:off x="8517960" y="31226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2"/>
            <p:cNvSpPr/>
            <p:nvPr/>
          </p:nvSpPr>
          <p:spPr>
            <a:xfrm>
              <a:off x="3336120" y="312264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13"/>
            <p:cNvSpPr/>
            <p:nvPr/>
          </p:nvSpPr>
          <p:spPr>
            <a:xfrm>
              <a:off x="2498040" y="312264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14"/>
            <p:cNvSpPr/>
            <p:nvPr/>
          </p:nvSpPr>
          <p:spPr>
            <a:xfrm>
              <a:off x="2879280" y="373212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15"/>
            <p:cNvSpPr/>
            <p:nvPr/>
          </p:nvSpPr>
          <p:spPr>
            <a:xfrm>
              <a:off x="5698440" y="3732120"/>
              <a:ext cx="73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16"/>
          <p:cNvGrpSpPr/>
          <p:nvPr/>
        </p:nvGrpSpPr>
        <p:grpSpPr>
          <a:xfrm>
            <a:off x="2498040" y="1446120"/>
            <a:ext cx="6307200" cy="945720"/>
            <a:chOff x="2498040" y="1446120"/>
            <a:chExt cx="6307200" cy="945720"/>
          </a:xfrm>
        </p:grpSpPr>
        <p:grpSp>
          <p:nvGrpSpPr>
            <p:cNvPr id="946" name="Group 17"/>
            <p:cNvGrpSpPr/>
            <p:nvPr/>
          </p:nvGrpSpPr>
          <p:grpSpPr>
            <a:xfrm>
              <a:off x="2498040" y="1446120"/>
              <a:ext cx="6307200" cy="640800"/>
              <a:chOff x="2498040" y="1446120"/>
              <a:chExt cx="6307200" cy="640800"/>
            </a:xfrm>
          </p:grpSpPr>
          <p:grpSp>
            <p:nvGrpSpPr>
              <p:cNvPr id="947" name="Group 18"/>
              <p:cNvGrpSpPr/>
              <p:nvPr/>
            </p:nvGrpSpPr>
            <p:grpSpPr>
              <a:xfrm>
                <a:off x="2597040" y="1751040"/>
                <a:ext cx="6083280" cy="335880"/>
                <a:chOff x="2597040" y="1751040"/>
                <a:chExt cx="6083280" cy="335880"/>
              </a:xfrm>
            </p:grpSpPr>
            <p:sp>
              <p:nvSpPr>
                <p:cNvPr id="948" name="Rectangle 19"/>
                <p:cNvSpPr/>
                <p:nvPr/>
              </p:nvSpPr>
              <p:spPr>
                <a:xfrm>
                  <a:off x="2603520" y="1765440"/>
                  <a:ext cx="6070680" cy="279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9" name="Group 20"/>
                <p:cNvGrpSpPr/>
                <p:nvPr/>
              </p:nvGrpSpPr>
              <p:grpSpPr>
                <a:xfrm>
                  <a:off x="2597040" y="1751040"/>
                  <a:ext cx="6083280" cy="335880"/>
                  <a:chOff x="2597040" y="1751040"/>
                  <a:chExt cx="6083280" cy="335880"/>
                </a:xfrm>
              </p:grpSpPr>
              <p:grpSp>
                <p:nvGrpSpPr>
                  <p:cNvPr id="950" name="Group 21"/>
                  <p:cNvGrpSpPr/>
                  <p:nvPr/>
                </p:nvGrpSpPr>
                <p:grpSpPr>
                  <a:xfrm>
                    <a:off x="2597040" y="1751040"/>
                    <a:ext cx="1054080" cy="335880"/>
                    <a:chOff x="2597040" y="1751040"/>
                    <a:chExt cx="1054080" cy="335880"/>
                  </a:xfrm>
                </p:grpSpPr>
                <p:sp>
                  <p:nvSpPr>
                    <p:cNvPr id="951" name="Rectangle 22"/>
                    <p:cNvSpPr/>
                    <p:nvPr/>
                  </p:nvSpPr>
                  <p:spPr>
                    <a:xfrm>
                      <a:off x="2597040" y="1758960"/>
                      <a:ext cx="105408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Rectangle 23"/>
                    <p:cNvSpPr/>
                    <p:nvPr/>
                  </p:nvSpPr>
                  <p:spPr>
                    <a:xfrm>
                      <a:off x="2907720" y="1751040"/>
                      <a:ext cx="39996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3" name="Group 24"/>
                  <p:cNvGrpSpPr/>
                  <p:nvPr/>
                </p:nvGrpSpPr>
                <p:grpSpPr>
                  <a:xfrm>
                    <a:off x="3664080" y="1751040"/>
                    <a:ext cx="977760" cy="335880"/>
                    <a:chOff x="3664080" y="1751040"/>
                    <a:chExt cx="977760" cy="335880"/>
                  </a:xfrm>
                </p:grpSpPr>
                <p:sp>
                  <p:nvSpPr>
                    <p:cNvPr id="954" name="Rectangle 25"/>
                    <p:cNvSpPr/>
                    <p:nvPr/>
                  </p:nvSpPr>
                  <p:spPr>
                    <a:xfrm>
                      <a:off x="366408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Rectangle 26"/>
                    <p:cNvSpPr/>
                    <p:nvPr/>
                  </p:nvSpPr>
                  <p:spPr>
                    <a:xfrm>
                      <a:off x="3946680" y="1751040"/>
                      <a:ext cx="3542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6" name="Group 27"/>
                  <p:cNvGrpSpPr/>
                  <p:nvPr/>
                </p:nvGrpSpPr>
                <p:grpSpPr>
                  <a:xfrm>
                    <a:off x="4654440" y="1751040"/>
                    <a:ext cx="978120" cy="335880"/>
                    <a:chOff x="4654440" y="1751040"/>
                    <a:chExt cx="978120" cy="335880"/>
                  </a:xfrm>
                </p:grpSpPr>
                <p:sp>
                  <p:nvSpPr>
                    <p:cNvPr id="957" name="Rectangle 28"/>
                    <p:cNvSpPr/>
                    <p:nvPr/>
                  </p:nvSpPr>
                  <p:spPr>
                    <a:xfrm>
                      <a:off x="4654440" y="1758960"/>
                      <a:ext cx="97812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Rectangle 29"/>
                    <p:cNvSpPr/>
                    <p:nvPr/>
                  </p:nvSpPr>
                  <p:spPr>
                    <a:xfrm>
                      <a:off x="4936680" y="1751040"/>
                      <a:ext cx="34200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9" name="Group 30"/>
                  <p:cNvGrpSpPr/>
                  <p:nvPr/>
                </p:nvGrpSpPr>
                <p:grpSpPr>
                  <a:xfrm>
                    <a:off x="5645160" y="1751040"/>
                    <a:ext cx="977760" cy="335880"/>
                    <a:chOff x="5645160" y="1751040"/>
                    <a:chExt cx="977760" cy="335880"/>
                  </a:xfrm>
                </p:grpSpPr>
                <p:sp>
                  <p:nvSpPr>
                    <p:cNvPr id="960" name="Rectangle 31"/>
                    <p:cNvSpPr/>
                    <p:nvPr/>
                  </p:nvSpPr>
                  <p:spPr>
                    <a:xfrm>
                      <a:off x="564516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Rectangle 32"/>
                    <p:cNvSpPr/>
                    <p:nvPr/>
                  </p:nvSpPr>
                  <p:spPr>
                    <a:xfrm>
                      <a:off x="5927760" y="1751040"/>
                      <a:ext cx="3877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Group 33"/>
                  <p:cNvGrpSpPr/>
                  <p:nvPr/>
                </p:nvGrpSpPr>
                <p:grpSpPr>
                  <a:xfrm>
                    <a:off x="6635880" y="1751040"/>
                    <a:ext cx="977760" cy="335880"/>
                    <a:chOff x="6635880" y="1751040"/>
                    <a:chExt cx="977760" cy="335880"/>
                  </a:xfrm>
                </p:grpSpPr>
                <p:sp>
                  <p:nvSpPr>
                    <p:cNvPr id="963" name="Rectangle 34"/>
                    <p:cNvSpPr/>
                    <p:nvPr/>
                  </p:nvSpPr>
                  <p:spPr>
                    <a:xfrm>
                      <a:off x="663588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Rectangle 35"/>
                    <p:cNvSpPr/>
                    <p:nvPr/>
                  </p:nvSpPr>
                  <p:spPr>
                    <a:xfrm>
                      <a:off x="6765480" y="1751040"/>
                      <a:ext cx="7153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5" name="Group 36"/>
                  <p:cNvGrpSpPr/>
                  <p:nvPr/>
                </p:nvGrpSpPr>
                <p:grpSpPr>
                  <a:xfrm>
                    <a:off x="7626240" y="1751040"/>
                    <a:ext cx="1054080" cy="335880"/>
                    <a:chOff x="7626240" y="1751040"/>
                    <a:chExt cx="1054080" cy="335880"/>
                  </a:xfrm>
                </p:grpSpPr>
                <p:sp>
                  <p:nvSpPr>
                    <p:cNvPr id="966" name="Rectangle 37"/>
                    <p:cNvSpPr/>
                    <p:nvPr/>
                  </p:nvSpPr>
                  <p:spPr>
                    <a:xfrm>
                      <a:off x="7626240" y="1758960"/>
                      <a:ext cx="105408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Rectangle 38"/>
                    <p:cNvSpPr/>
                    <p:nvPr/>
                  </p:nvSpPr>
                  <p:spPr>
                    <a:xfrm>
                      <a:off x="7937640" y="1751040"/>
                      <a:ext cx="6346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fun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68" name="Rectangle 39"/>
              <p:cNvSpPr/>
              <p:nvPr/>
            </p:nvSpPr>
            <p:spPr>
              <a:xfrm>
                <a:off x="8517960" y="144612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0"/>
              <p:cNvSpPr/>
              <p:nvPr/>
            </p:nvSpPr>
            <p:spPr>
              <a:xfrm>
                <a:off x="7374960" y="144612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41"/>
              <p:cNvSpPr/>
              <p:nvPr/>
            </p:nvSpPr>
            <p:spPr>
              <a:xfrm>
                <a:off x="630792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42"/>
              <p:cNvSpPr/>
              <p:nvPr/>
            </p:nvSpPr>
            <p:spPr>
              <a:xfrm>
                <a:off x="531756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3"/>
              <p:cNvSpPr/>
              <p:nvPr/>
            </p:nvSpPr>
            <p:spPr>
              <a:xfrm>
                <a:off x="432684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44"/>
              <p:cNvSpPr/>
              <p:nvPr/>
            </p:nvSpPr>
            <p:spPr>
              <a:xfrm>
                <a:off x="333612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45"/>
              <p:cNvSpPr/>
              <p:nvPr/>
            </p:nvSpPr>
            <p:spPr>
              <a:xfrm>
                <a:off x="249804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Rectangle 46"/>
            <p:cNvSpPr/>
            <p:nvPr/>
          </p:nvSpPr>
          <p:spPr>
            <a:xfrm>
              <a:off x="28792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47"/>
            <p:cNvSpPr/>
            <p:nvPr/>
          </p:nvSpPr>
          <p:spPr>
            <a:xfrm>
              <a:off x="79084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48"/>
            <p:cNvSpPr/>
            <p:nvPr/>
          </p:nvSpPr>
          <p:spPr>
            <a:xfrm>
              <a:off x="684180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49"/>
            <p:cNvSpPr/>
            <p:nvPr/>
          </p:nvSpPr>
          <p:spPr>
            <a:xfrm>
              <a:off x="58510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50"/>
            <p:cNvSpPr/>
            <p:nvPr/>
          </p:nvSpPr>
          <p:spPr>
            <a:xfrm>
              <a:off x="486036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51"/>
            <p:cNvSpPr/>
            <p:nvPr/>
          </p:nvSpPr>
          <p:spPr>
            <a:xfrm>
              <a:off x="387000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Group 52"/>
          <p:cNvGrpSpPr/>
          <p:nvPr/>
        </p:nvGrpSpPr>
        <p:grpSpPr>
          <a:xfrm>
            <a:off x="2498040" y="2284560"/>
            <a:ext cx="6307200" cy="945360"/>
            <a:chOff x="2498040" y="2284560"/>
            <a:chExt cx="6307200" cy="945360"/>
          </a:xfrm>
        </p:grpSpPr>
        <p:sp>
          <p:nvSpPr>
            <p:cNvPr id="982" name="Rectangle 53"/>
            <p:cNvSpPr/>
            <p:nvPr/>
          </p:nvSpPr>
          <p:spPr>
            <a:xfrm>
              <a:off x="2603520" y="2603520"/>
              <a:ext cx="6070680" cy="279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54"/>
            <p:cNvGrpSpPr/>
            <p:nvPr/>
          </p:nvGrpSpPr>
          <p:grpSpPr>
            <a:xfrm>
              <a:off x="2597040" y="2589120"/>
              <a:ext cx="1054080" cy="335880"/>
              <a:chOff x="2597040" y="2589120"/>
              <a:chExt cx="1054080" cy="335880"/>
            </a:xfrm>
          </p:grpSpPr>
          <p:sp>
            <p:nvSpPr>
              <p:cNvPr id="984" name="Rectangle 55"/>
              <p:cNvSpPr/>
              <p:nvPr/>
            </p:nvSpPr>
            <p:spPr>
              <a:xfrm>
                <a:off x="2597040" y="2597040"/>
                <a:ext cx="105408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Rectangle 56"/>
              <p:cNvSpPr/>
              <p:nvPr/>
            </p:nvSpPr>
            <p:spPr>
              <a:xfrm>
                <a:off x="2907720" y="2589120"/>
                <a:ext cx="399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57"/>
            <p:cNvGrpSpPr/>
            <p:nvPr/>
          </p:nvGrpSpPr>
          <p:grpSpPr>
            <a:xfrm>
              <a:off x="3664080" y="2589120"/>
              <a:ext cx="977760" cy="335880"/>
              <a:chOff x="3664080" y="2589120"/>
              <a:chExt cx="977760" cy="335880"/>
            </a:xfrm>
          </p:grpSpPr>
          <p:sp>
            <p:nvSpPr>
              <p:cNvPr id="987" name="Rectangle 58"/>
              <p:cNvSpPr/>
              <p:nvPr/>
            </p:nvSpPr>
            <p:spPr>
              <a:xfrm>
                <a:off x="3664080" y="2597040"/>
                <a:ext cx="97776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Rectangle 59"/>
              <p:cNvSpPr/>
              <p:nvPr/>
            </p:nvSpPr>
            <p:spPr>
              <a:xfrm>
                <a:off x="3946680" y="2589120"/>
                <a:ext cx="354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60"/>
            <p:cNvGrpSpPr/>
            <p:nvPr/>
          </p:nvGrpSpPr>
          <p:grpSpPr>
            <a:xfrm>
              <a:off x="4654440" y="2589120"/>
              <a:ext cx="978120" cy="335880"/>
              <a:chOff x="4654440" y="2589120"/>
              <a:chExt cx="978120" cy="335880"/>
            </a:xfrm>
          </p:grpSpPr>
          <p:sp>
            <p:nvSpPr>
              <p:cNvPr id="990" name="Rectangle 61"/>
              <p:cNvSpPr/>
              <p:nvPr/>
            </p:nvSpPr>
            <p:spPr>
              <a:xfrm>
                <a:off x="4654440" y="2597040"/>
                <a:ext cx="97812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Rectangle 62"/>
              <p:cNvSpPr/>
              <p:nvPr/>
            </p:nvSpPr>
            <p:spPr>
              <a:xfrm>
                <a:off x="4936680" y="2589120"/>
                <a:ext cx="34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Rectangle 63"/>
            <p:cNvSpPr/>
            <p:nvPr/>
          </p:nvSpPr>
          <p:spPr>
            <a:xfrm>
              <a:off x="5645160" y="2597040"/>
              <a:ext cx="303516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64"/>
            <p:cNvSpPr/>
            <p:nvPr/>
          </p:nvSpPr>
          <p:spPr>
            <a:xfrm>
              <a:off x="6562800" y="25718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immedi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5"/>
            <p:cNvSpPr/>
            <p:nvPr/>
          </p:nvSpPr>
          <p:spPr>
            <a:xfrm>
              <a:off x="8517960" y="22845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66"/>
            <p:cNvSpPr/>
            <p:nvPr/>
          </p:nvSpPr>
          <p:spPr>
            <a:xfrm>
              <a:off x="531756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67"/>
            <p:cNvSpPr/>
            <p:nvPr/>
          </p:nvSpPr>
          <p:spPr>
            <a:xfrm>
              <a:off x="432684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68"/>
            <p:cNvSpPr/>
            <p:nvPr/>
          </p:nvSpPr>
          <p:spPr>
            <a:xfrm>
              <a:off x="333612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69"/>
            <p:cNvSpPr/>
            <p:nvPr/>
          </p:nvSpPr>
          <p:spPr>
            <a:xfrm>
              <a:off x="249804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70"/>
            <p:cNvSpPr/>
            <p:nvPr/>
          </p:nvSpPr>
          <p:spPr>
            <a:xfrm>
              <a:off x="287928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71"/>
            <p:cNvSpPr/>
            <p:nvPr/>
          </p:nvSpPr>
          <p:spPr>
            <a:xfrm>
              <a:off x="6765120" y="2894040"/>
              <a:ext cx="73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72"/>
            <p:cNvSpPr/>
            <p:nvPr/>
          </p:nvSpPr>
          <p:spPr>
            <a:xfrm>
              <a:off x="486036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73"/>
            <p:cNvSpPr/>
            <p:nvPr/>
          </p:nvSpPr>
          <p:spPr>
            <a:xfrm>
              <a:off x="387000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Instruction formats and addressing mo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struction form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mmedi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jump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ddressing mo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mmediate - value built in to the instru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 - register used for dat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Memory referencing - used with load and store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label - fixed address built in to the instru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direct - register contains the addres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Base addressing - field of a recor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dexed addressing - element of an arra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l instructions fit in 32-bit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coding starts with the leftmost 6-bits, the op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gis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or operations using only registers as operands, the operation code is 000000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   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rc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rget reg  Dest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hift amt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10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11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 0010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0010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last line of the table gives as an example a subtract instruction, sub $5, $10, $7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5-bit fields identify the 3 regs: src, target/src, dest (diff from assemb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struction formats (Regis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low between registers and 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dd $t3, $t1, $t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$t1 = $9, $t2 = $10, $t3 = $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9" name="Picture 1028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3771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6-bit immediate (constant), 6-bit op, 2 re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ddi $t1, $t2, 0xfffe (actually adds 0xfffffffe, -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rter numbers are sign exten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p cod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rc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rget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mediate valu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1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0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111 1111 1111 11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e all 26-bits following the op code for jum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ast 2 bits are always 0 (word alignment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on execution, the 26-bit jump target is shifted left 2 bits and stored in the PC, causing the ju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26 bits - jump target (words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x0040000c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x0100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n only target the first 256Mb of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arounds: reserve “low” memory, use jump-reg instruction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mmediate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64800" y="134316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part o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= address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ADD #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5 to contents of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 is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memory reference to fetch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r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9" name="Group 6"/>
          <p:cNvGrpSpPr/>
          <p:nvPr/>
        </p:nvGrpSpPr>
        <p:grpSpPr>
          <a:xfrm>
            <a:off x="3123720" y="5029200"/>
            <a:ext cx="4799520" cy="1061640"/>
            <a:chOff x="3123720" y="5029200"/>
            <a:chExt cx="4799520" cy="1061640"/>
          </a:xfrm>
        </p:grpSpPr>
        <p:grpSp>
          <p:nvGrpSpPr>
            <p:cNvPr id="590" name="Group 7"/>
            <p:cNvGrpSpPr/>
            <p:nvPr/>
          </p:nvGrpSpPr>
          <p:grpSpPr>
            <a:xfrm>
              <a:off x="3200400" y="5486040"/>
              <a:ext cx="4722840" cy="604800"/>
              <a:chOff x="3200400" y="5486040"/>
              <a:chExt cx="4722840" cy="604800"/>
            </a:xfrm>
          </p:grpSpPr>
          <p:sp>
            <p:nvSpPr>
              <p:cNvPr id="591" name="Rectangle 8"/>
              <p:cNvSpPr/>
              <p:nvPr/>
            </p:nvSpPr>
            <p:spPr>
              <a:xfrm>
                <a:off x="3200400" y="5486040"/>
                <a:ext cx="472284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4190760" y="5493600"/>
                <a:ext cx="0" cy="59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Rectangle 10"/>
            <p:cNvSpPr/>
            <p:nvPr/>
          </p:nvSpPr>
          <p:spPr>
            <a:xfrm>
              <a:off x="5333400" y="5562360"/>
              <a:ext cx="123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1"/>
            <p:cNvSpPr/>
            <p:nvPr/>
          </p:nvSpPr>
          <p:spPr>
            <a:xfrm>
              <a:off x="3123720" y="5562360"/>
              <a:ext cx="1129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2"/>
            <p:cNvSpPr/>
            <p:nvPr/>
          </p:nvSpPr>
          <p:spPr>
            <a:xfrm>
              <a:off x="4569120" y="5029200"/>
              <a:ext cx="150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mplementation Re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, let’s think about how different instructions get exec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6" name="Picture 5" descr=""/>
          <p:cNvPicPr/>
          <p:nvPr/>
        </p:nvPicPr>
        <p:blipFill>
          <a:blip r:embed="rId2"/>
          <a:stretch/>
        </p:blipFill>
        <p:spPr>
          <a:xfrm>
            <a:off x="1117440" y="2514600"/>
            <a:ext cx="7340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bstract Implementation 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018" name="Picture 7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8229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035000" y="914400"/>
            <a:ext cx="1866960" cy="391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Line 3"/>
          <p:cNvSpPr/>
          <p:nvPr/>
        </p:nvSpPr>
        <p:spPr>
          <a:xfrm flipH="1">
            <a:off x="3130200" y="12952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4"/>
          <p:cNvGrpSpPr/>
          <p:nvPr/>
        </p:nvGrpSpPr>
        <p:grpSpPr>
          <a:xfrm>
            <a:off x="3892680" y="1143000"/>
            <a:ext cx="457200" cy="1219320"/>
            <a:chOff x="3892680" y="1143000"/>
            <a:chExt cx="457200" cy="1219320"/>
          </a:xfrm>
        </p:grpSpPr>
        <p:sp>
          <p:nvSpPr>
            <p:cNvPr id="1022" name="Line 5"/>
            <p:cNvSpPr/>
            <p:nvPr/>
          </p:nvSpPr>
          <p:spPr>
            <a:xfrm>
              <a:off x="3892680" y="11430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6"/>
            <p:cNvSpPr/>
            <p:nvPr/>
          </p:nvSpPr>
          <p:spPr>
            <a:xfrm>
              <a:off x="3892680" y="1143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7"/>
            <p:cNvSpPr/>
            <p:nvPr/>
          </p:nvSpPr>
          <p:spPr>
            <a:xfrm>
              <a:off x="3892680" y="14479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"/>
            <p:cNvSpPr/>
            <p:nvPr/>
          </p:nvSpPr>
          <p:spPr>
            <a:xfrm>
              <a:off x="4121280" y="1600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9"/>
            <p:cNvSpPr/>
            <p:nvPr/>
          </p:nvSpPr>
          <p:spPr>
            <a:xfrm>
              <a:off x="4349880" y="14479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0"/>
            <p:cNvSpPr/>
            <p:nvPr/>
          </p:nvSpPr>
          <p:spPr>
            <a:xfrm flipV="1">
              <a:off x="3892680" y="19047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1"/>
            <p:cNvSpPr/>
            <p:nvPr/>
          </p:nvSpPr>
          <p:spPr>
            <a:xfrm>
              <a:off x="3892680" y="20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 flipV="1">
              <a:off x="3892680" y="205704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Line 13"/>
          <p:cNvSpPr/>
          <p:nvPr/>
        </p:nvSpPr>
        <p:spPr>
          <a:xfrm flipH="1">
            <a:off x="3511440" y="12193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4"/>
          <p:cNvSpPr/>
          <p:nvPr/>
        </p:nvSpPr>
        <p:spPr>
          <a:xfrm>
            <a:off x="3189600" y="12492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15"/>
          <p:cNvSpPr/>
          <p:nvPr/>
        </p:nvSpPr>
        <p:spPr>
          <a:xfrm flipH="1">
            <a:off x="3130200" y="22096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16"/>
          <p:cNvSpPr/>
          <p:nvPr/>
        </p:nvSpPr>
        <p:spPr>
          <a:xfrm flipH="1">
            <a:off x="3511440" y="21337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3189600" y="2163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8"/>
          <p:cNvSpPr/>
          <p:nvPr/>
        </p:nvSpPr>
        <p:spPr>
          <a:xfrm>
            <a:off x="2809440" y="1096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9"/>
          <p:cNvSpPr/>
          <p:nvPr/>
        </p:nvSpPr>
        <p:spPr>
          <a:xfrm>
            <a:off x="2809800" y="20113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20"/>
          <p:cNvSpPr/>
          <p:nvPr/>
        </p:nvSpPr>
        <p:spPr>
          <a:xfrm flipH="1">
            <a:off x="4349880" y="1752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21"/>
          <p:cNvSpPr/>
          <p:nvPr/>
        </p:nvSpPr>
        <p:spPr>
          <a:xfrm flipH="1">
            <a:off x="4730760" y="16765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2"/>
          <p:cNvSpPr/>
          <p:nvPr/>
        </p:nvSpPr>
        <p:spPr>
          <a:xfrm>
            <a:off x="4408560" y="1706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3"/>
          <p:cNvSpPr/>
          <p:nvPr/>
        </p:nvSpPr>
        <p:spPr>
          <a:xfrm>
            <a:off x="5094720" y="155412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24"/>
          <p:cNvSpPr/>
          <p:nvPr/>
        </p:nvSpPr>
        <p:spPr>
          <a:xfrm>
            <a:off x="4121280" y="2209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5"/>
          <p:cNvSpPr/>
          <p:nvPr/>
        </p:nvSpPr>
        <p:spPr>
          <a:xfrm>
            <a:off x="5094360" y="201132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6"/>
          <p:cNvSpPr/>
          <p:nvPr/>
        </p:nvSpPr>
        <p:spPr>
          <a:xfrm flipH="1">
            <a:off x="3053880" y="52578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Group 27"/>
          <p:cNvGrpSpPr/>
          <p:nvPr/>
        </p:nvGrpSpPr>
        <p:grpSpPr>
          <a:xfrm>
            <a:off x="3816360" y="5105520"/>
            <a:ext cx="457200" cy="1218960"/>
            <a:chOff x="3816360" y="5105520"/>
            <a:chExt cx="457200" cy="1218960"/>
          </a:xfrm>
        </p:grpSpPr>
        <p:sp>
          <p:nvSpPr>
            <p:cNvPr id="1045" name="Line 28"/>
            <p:cNvSpPr/>
            <p:nvPr/>
          </p:nvSpPr>
          <p:spPr>
            <a:xfrm>
              <a:off x="3816360" y="5105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29"/>
            <p:cNvSpPr/>
            <p:nvPr/>
          </p:nvSpPr>
          <p:spPr>
            <a:xfrm>
              <a:off x="3816360" y="5105520"/>
              <a:ext cx="4572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30"/>
            <p:cNvSpPr/>
            <p:nvPr/>
          </p:nvSpPr>
          <p:spPr>
            <a:xfrm>
              <a:off x="3816360" y="541008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31"/>
            <p:cNvSpPr/>
            <p:nvPr/>
          </p:nvSpPr>
          <p:spPr>
            <a:xfrm>
              <a:off x="4044960" y="55627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32"/>
            <p:cNvSpPr/>
            <p:nvPr/>
          </p:nvSpPr>
          <p:spPr>
            <a:xfrm>
              <a:off x="4273560" y="5410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33"/>
            <p:cNvSpPr/>
            <p:nvPr/>
          </p:nvSpPr>
          <p:spPr>
            <a:xfrm flipV="1">
              <a:off x="3816360" y="586728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34"/>
            <p:cNvSpPr/>
            <p:nvPr/>
          </p:nvSpPr>
          <p:spPr>
            <a:xfrm>
              <a:off x="381636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35"/>
            <p:cNvSpPr/>
            <p:nvPr/>
          </p:nvSpPr>
          <p:spPr>
            <a:xfrm flipV="1">
              <a:off x="3816360" y="6019920"/>
              <a:ext cx="4572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Line 36"/>
          <p:cNvSpPr/>
          <p:nvPr/>
        </p:nvSpPr>
        <p:spPr>
          <a:xfrm flipH="1">
            <a:off x="3435120" y="51814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3113280" y="52117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8"/>
          <p:cNvSpPr/>
          <p:nvPr/>
        </p:nvSpPr>
        <p:spPr>
          <a:xfrm flipH="1">
            <a:off x="305388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39"/>
          <p:cNvSpPr/>
          <p:nvPr/>
        </p:nvSpPr>
        <p:spPr>
          <a:xfrm flipH="1">
            <a:off x="3435120" y="60958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40"/>
          <p:cNvSpPr/>
          <p:nvPr/>
        </p:nvSpPr>
        <p:spPr>
          <a:xfrm>
            <a:off x="3113280" y="61261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41"/>
          <p:cNvSpPr/>
          <p:nvPr/>
        </p:nvSpPr>
        <p:spPr>
          <a:xfrm>
            <a:off x="2733480" y="50594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42"/>
          <p:cNvSpPr/>
          <p:nvPr/>
        </p:nvSpPr>
        <p:spPr>
          <a:xfrm>
            <a:off x="2733840" y="59738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H="1">
            <a:off x="4273200" y="57150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4"/>
          <p:cNvSpPr/>
          <p:nvPr/>
        </p:nvSpPr>
        <p:spPr>
          <a:xfrm flipH="1">
            <a:off x="4654440" y="56386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45"/>
          <p:cNvSpPr/>
          <p:nvPr/>
        </p:nvSpPr>
        <p:spPr>
          <a:xfrm>
            <a:off x="4332600" y="56689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46"/>
          <p:cNvSpPr/>
          <p:nvPr/>
        </p:nvSpPr>
        <p:spPr>
          <a:xfrm>
            <a:off x="5018760" y="551664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47"/>
          <p:cNvSpPr/>
          <p:nvPr/>
        </p:nvSpPr>
        <p:spPr>
          <a:xfrm>
            <a:off x="404496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48"/>
          <p:cNvSpPr/>
          <p:nvPr/>
        </p:nvSpPr>
        <p:spPr>
          <a:xfrm>
            <a:off x="3741840" y="4468680"/>
            <a:ext cx="68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49"/>
          <p:cNvGrpSpPr/>
          <p:nvPr/>
        </p:nvGrpSpPr>
        <p:grpSpPr>
          <a:xfrm>
            <a:off x="3892680" y="3124080"/>
            <a:ext cx="304560" cy="1143000"/>
            <a:chOff x="3892680" y="3124080"/>
            <a:chExt cx="304560" cy="1143000"/>
          </a:xfrm>
        </p:grpSpPr>
        <p:sp>
          <p:nvSpPr>
            <p:cNvPr id="1067" name="Line 50"/>
            <p:cNvSpPr/>
            <p:nvPr/>
          </p:nvSpPr>
          <p:spPr>
            <a:xfrm>
              <a:off x="3892680" y="31240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51"/>
            <p:cNvSpPr/>
            <p:nvPr/>
          </p:nvSpPr>
          <p:spPr>
            <a:xfrm>
              <a:off x="3892680" y="3124080"/>
              <a:ext cx="3045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52"/>
            <p:cNvSpPr/>
            <p:nvPr/>
          </p:nvSpPr>
          <p:spPr>
            <a:xfrm flipV="1">
              <a:off x="3892680" y="411444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53"/>
            <p:cNvSpPr/>
            <p:nvPr/>
          </p:nvSpPr>
          <p:spPr>
            <a:xfrm>
              <a:off x="4197240" y="32767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Line 54"/>
          <p:cNvSpPr/>
          <p:nvPr/>
        </p:nvSpPr>
        <p:spPr>
          <a:xfrm flipH="1">
            <a:off x="3130200" y="33526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55"/>
          <p:cNvSpPr/>
          <p:nvPr/>
        </p:nvSpPr>
        <p:spPr>
          <a:xfrm flipH="1">
            <a:off x="3511440" y="32767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56"/>
          <p:cNvSpPr/>
          <p:nvPr/>
        </p:nvSpPr>
        <p:spPr>
          <a:xfrm>
            <a:off x="31896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57"/>
          <p:cNvSpPr/>
          <p:nvPr/>
        </p:nvSpPr>
        <p:spPr>
          <a:xfrm flipH="1">
            <a:off x="3130200" y="40384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58"/>
          <p:cNvSpPr/>
          <p:nvPr/>
        </p:nvSpPr>
        <p:spPr>
          <a:xfrm flipH="1">
            <a:off x="3511440" y="39625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59"/>
          <p:cNvSpPr/>
          <p:nvPr/>
        </p:nvSpPr>
        <p:spPr>
          <a:xfrm>
            <a:off x="280944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60"/>
          <p:cNvSpPr/>
          <p:nvPr/>
        </p:nvSpPr>
        <p:spPr>
          <a:xfrm>
            <a:off x="280980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61"/>
          <p:cNvSpPr/>
          <p:nvPr/>
        </p:nvSpPr>
        <p:spPr>
          <a:xfrm>
            <a:off x="3189600" y="3992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62"/>
          <p:cNvSpPr/>
          <p:nvPr/>
        </p:nvSpPr>
        <p:spPr>
          <a:xfrm flipH="1">
            <a:off x="4196880" y="3733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63"/>
          <p:cNvSpPr/>
          <p:nvPr/>
        </p:nvSpPr>
        <p:spPr>
          <a:xfrm flipH="1">
            <a:off x="4578120" y="365760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64"/>
          <p:cNvSpPr/>
          <p:nvPr/>
        </p:nvSpPr>
        <p:spPr>
          <a:xfrm>
            <a:off x="4943160" y="35352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65"/>
          <p:cNvSpPr/>
          <p:nvPr/>
        </p:nvSpPr>
        <p:spPr>
          <a:xfrm>
            <a:off x="4256280" y="36878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66"/>
          <p:cNvSpPr/>
          <p:nvPr/>
        </p:nvSpPr>
        <p:spPr>
          <a:xfrm>
            <a:off x="404496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67"/>
          <p:cNvSpPr/>
          <p:nvPr/>
        </p:nvSpPr>
        <p:spPr>
          <a:xfrm>
            <a:off x="3648240" y="2436840"/>
            <a:ext cx="108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8"/>
          <p:cNvSpPr/>
          <p:nvPr/>
        </p:nvSpPr>
        <p:spPr>
          <a:xfrm rot="5400000">
            <a:off x="3841560" y="164160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69"/>
          <p:cNvSpPr/>
          <p:nvPr/>
        </p:nvSpPr>
        <p:spPr>
          <a:xfrm rot="5400000">
            <a:off x="3689280" y="355428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70"/>
          <p:cNvSpPr/>
          <p:nvPr/>
        </p:nvSpPr>
        <p:spPr>
          <a:xfrm rot="5400000">
            <a:off x="3835080" y="5551560"/>
            <a:ext cx="61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71"/>
          <p:cNvSpPr/>
          <p:nvPr/>
        </p:nvSpPr>
        <p:spPr>
          <a:xfrm>
            <a:off x="4197240" y="914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72"/>
          <p:cNvSpPr/>
          <p:nvPr/>
        </p:nvSpPr>
        <p:spPr>
          <a:xfrm>
            <a:off x="4179240" y="792000"/>
            <a:ext cx="109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arry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73"/>
          <p:cNvSpPr/>
          <p:nvPr/>
        </p:nvSpPr>
        <p:spPr>
          <a:xfrm flipV="1">
            <a:off x="3968640" y="48002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74"/>
          <p:cNvSpPr/>
          <p:nvPr/>
        </p:nvSpPr>
        <p:spPr>
          <a:xfrm>
            <a:off x="425664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75"/>
          <p:cNvSpPr/>
          <p:nvPr/>
        </p:nvSpPr>
        <p:spPr>
          <a:xfrm>
            <a:off x="632160" y="189000"/>
            <a:ext cx="70952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Gill Sans MT"/>
                <a:ea typeface="ＭＳ ゴシック"/>
              </a:rPr>
              <a:t>Step 2: Components of the Data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76"/>
          <p:cNvSpPr/>
          <p:nvPr/>
        </p:nvSpPr>
        <p:spPr>
          <a:xfrm>
            <a:off x="5933520" y="5715000"/>
            <a:ext cx="281592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ＭＳ ゴシック"/>
              </a:rPr>
              <a:t>Combinational Logic:</a:t>
            </a:r>
            <a:br>
              <a:rPr sz="2400"/>
            </a:b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ＭＳ ゴシック"/>
              </a:rPr>
              <a:t>Does not use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0720" y="3571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Fetching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52200" y="1357200"/>
            <a:ext cx="5600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Fetching instructions invo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reading the instruction from the Instructio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updating the PC to hold the address of the next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PC is updated every cycle, so it does not need an explicit write control sig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nstruction Memory is read every cycle, so it doesn’t need an explicit read control sig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6" name="Picture 4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865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Decoding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oding instructions invo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the fetched instruction’s opcode and function field bits to the control un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ing two values from the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 File addresses are containe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2"/>
          <a:stretch/>
        </p:blipFill>
        <p:spPr>
          <a:xfrm>
            <a:off x="3276720" y="2895480"/>
            <a:ext cx="4724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360" y="428760"/>
            <a:ext cx="8258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R Format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form the indicated (by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op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fun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operation on values i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e the result back into the Register File (into locatio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e that Register File is not written every cycle (e.g.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, so we need an explicit write control signal for the Register Fi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669960" y="99072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 format operations (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  <a:ea typeface="ＭＳ ゴシック"/>
              </a:rPr>
              <a:t>add, sub, slt, and, 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Picture 5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5226120" cy="779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6" descr=""/>
          <p:cNvPicPr/>
          <p:nvPr/>
        </p:nvPicPr>
        <p:blipFill>
          <a:blip r:embed="rId3"/>
          <a:stretch/>
        </p:blipFill>
        <p:spPr>
          <a:xfrm>
            <a:off x="2143080" y="4357800"/>
            <a:ext cx="47433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Load and Store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and store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a memory address by adding the base register (in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o the 16-bit signed offset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register was read from the Register File during de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set value in the low order 16 bits of the instruction must be sign extended to create a 32-bit signed val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, read from the Register File during decode,must be written to the Data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loa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, read from the Data Memory, must be stored in the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2"/>
          <a:stretch/>
        </p:blipFill>
        <p:spPr>
          <a:xfrm>
            <a:off x="2133720" y="5181480"/>
            <a:ext cx="59436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Load and Store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09" name="Picture 4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76201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Branch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operations hav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 the operands read from the Register File during decode (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s) for equality (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zer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U outpu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the branch target address by adding the updated PC to the sign extended16-bit signed offset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register” is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updat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set value in the low order 16 bits of the instruction must be sign extended to create a 32-bit signed value and then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shifted left 2 bits to turn it into a word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67816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Branch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7550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irect/Absolute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field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ddress of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 address (EA) = address field (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 ADD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contents of cell A to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k in memory at address A for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 $1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$1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memory reference to acces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dditional calculations to work out effective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address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Jump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mp operations hav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4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ace the lower 28 bits of the PC with the lower 26 bits of the fetched instruction shifted left by 2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6248520" cy="6858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4771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reating a Single Datapath from the Par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mble the datapath segments, add control lines as needed, and design the control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tch, decode and execute each instructions in one clockcycle 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ingle cyc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datapath resource can be used more than once per instruction, so some must be duplicated (e.g., why we have a separate Instruction Memory and Data Memo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hare datapath elements between two different instruction classes will ne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multiplexor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the input of the shared elements with control lines to do the sel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ycle time is determined by length of the longest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Fetch, R, and Memory Access Por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2" name="Picture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077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Multiplexor Inser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4" name="Picture 3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3059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lock Distribu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80773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dding the Branch Por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8" name="Picture 1027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8153280" cy="480204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1028"/>
          <p:cNvSpPr/>
          <p:nvPr/>
        </p:nvSpPr>
        <p:spPr>
          <a:xfrm>
            <a:off x="8610480" y="1371600"/>
            <a:ext cx="152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dding the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ing the operations to perform (ALU, Register File and Memory read/writ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ling the flow of data (multiplexor input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rmation comes from the 32 bits of the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 field always in bits 31-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r of two registers to be read are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alway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fied by the rs and rt fields (bits 25-21 and 20-1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r. of register to be written is in one of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laces – in rt (bits 20- 16) for lw; in rd (bits 15-11) for R-type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 register for lw and sw always in rs (bits 25-2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fset for beq, lw, and sw always in bits 15-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2" name="Picture 4" descr=""/>
          <p:cNvPicPr/>
          <p:nvPr/>
        </p:nvPicPr>
        <p:blipFill>
          <a:blip r:embed="rId2"/>
          <a:stretch/>
        </p:blipFill>
        <p:spPr>
          <a:xfrm>
            <a:off x="2278080" y="4876920"/>
            <a:ext cx="511344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(Almost) Complete Single Cycle Datapat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34" name="Picture 3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897680" cy="466272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4"/>
          <p:cNvSpPr/>
          <p:nvPr/>
        </p:nvSpPr>
        <p:spPr>
          <a:xfrm>
            <a:off x="1955880" y="5943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Almost – ALU control is yet to be exp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3660840" y="592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irect/Absolute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03" name="Group 5"/>
          <p:cNvGrpSpPr/>
          <p:nvPr/>
        </p:nvGrpSpPr>
        <p:grpSpPr>
          <a:xfrm>
            <a:off x="1374840" y="1981080"/>
            <a:ext cx="4722840" cy="604800"/>
            <a:chOff x="1374840" y="1981080"/>
            <a:chExt cx="4722840" cy="604800"/>
          </a:xfrm>
        </p:grpSpPr>
        <p:sp>
          <p:nvSpPr>
            <p:cNvPr id="604" name="Rectangle 6"/>
            <p:cNvSpPr/>
            <p:nvPr/>
          </p:nvSpPr>
          <p:spPr>
            <a:xfrm>
              <a:off x="1374840" y="198108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>
              <a:off x="2365560" y="198864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Rectangle 8"/>
          <p:cNvSpPr/>
          <p:nvPr/>
        </p:nvSpPr>
        <p:spPr>
          <a:xfrm>
            <a:off x="3508920" y="2057400"/>
            <a:ext cx="14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1298160" y="205740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3048480" y="15238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327720" y="28954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6327720" y="35812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6327720" y="42670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6327720" y="49528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6327720" y="56386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6"/>
          <p:cNvSpPr/>
          <p:nvPr/>
        </p:nvSpPr>
        <p:spPr>
          <a:xfrm>
            <a:off x="6859800" y="236232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7"/>
          <p:cNvSpPr/>
          <p:nvPr/>
        </p:nvSpPr>
        <p:spPr>
          <a:xfrm>
            <a:off x="7013160" y="441972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8"/>
          <p:cNvSpPr/>
          <p:nvPr/>
        </p:nvSpPr>
        <p:spPr>
          <a:xfrm>
            <a:off x="3736800" y="2587680"/>
            <a:ext cx="2590920" cy="2022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perand is held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in regist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named in address fil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 = (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ed number of regis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small address field neede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orter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aster instruction fetc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 memory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fast execu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limited address sp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ultiple registers helps performa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quires good assembly programming or compiler writ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.e. C programming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681840" indent="-1756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ster int a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are With: Direct address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244008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24" name="Group 5"/>
          <p:cNvGrpSpPr/>
          <p:nvPr/>
        </p:nvGrpSpPr>
        <p:grpSpPr>
          <a:xfrm>
            <a:off x="1222200" y="2057400"/>
            <a:ext cx="4722840" cy="604800"/>
            <a:chOff x="1222200" y="2057400"/>
            <a:chExt cx="4722840" cy="604800"/>
          </a:xfrm>
        </p:grpSpPr>
        <p:sp>
          <p:nvSpPr>
            <p:cNvPr id="625" name="Rectangle 6"/>
            <p:cNvSpPr/>
            <p:nvPr/>
          </p:nvSpPr>
          <p:spPr>
            <a:xfrm>
              <a:off x="1222200" y="205740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7"/>
            <p:cNvSpPr/>
            <p:nvPr/>
          </p:nvSpPr>
          <p:spPr>
            <a:xfrm>
              <a:off x="2212920" y="206496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8"/>
          <p:cNvSpPr/>
          <p:nvPr/>
        </p:nvSpPr>
        <p:spPr>
          <a:xfrm>
            <a:off x="2516400" y="2133720"/>
            <a:ext cx="255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 Addres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145880" y="21337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2895840" y="16002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6175440" y="29718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6175440" y="36576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6175440" y="43434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6175440" y="50292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5"/>
          <p:cNvSpPr/>
          <p:nvPr/>
        </p:nvSpPr>
        <p:spPr>
          <a:xfrm>
            <a:off x="6175440" y="57150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6706800" y="243828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6860520" y="449568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18"/>
          <p:cNvSpPr/>
          <p:nvPr/>
        </p:nvSpPr>
        <p:spPr>
          <a:xfrm>
            <a:off x="3584520" y="2664000"/>
            <a:ext cx="2590920" cy="2022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exed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index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field of the instruction holds index-register design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 address is calculated, based on the value at the designated index-register and the address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R = base (Index regis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 = displac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IR + 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for accessing arr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IR + 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R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6:25:37Z</dcterms:created>
  <dc:creator>Pusat Komputer</dc:creator>
  <dc:description/>
  <dc:language>en-US</dc:language>
  <cp:lastModifiedBy>Nasharuddin Zainal</cp:lastModifiedBy>
  <dcterms:modified xsi:type="dcterms:W3CDTF">2011-11-10T06:33:03Z</dcterms:modified>
  <cp:revision>106</cp:revision>
  <dc:subject/>
  <dc:title>Computer Organization  and Architecture</dc:title>
</cp:coreProperties>
</file>